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9E9-A38D-4297-820E-2EAD6438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B8C-4E67-4CF5-95DA-C89AFBB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AAB-1977-4739-B43C-5F2BBF3B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020-520E-4465-9CB4-63053F91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7E9-A750-407D-9245-BC07AF37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4B7A-0536-430B-A94F-318DA13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D945-4ACD-41E1-BF0C-ADCC9DE9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A3E-F21F-4131-9C83-7D049182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8A9-0C47-47DE-A2A3-18327AEA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C3C4-F718-4423-A762-7938E82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05D4-3046-4CF5-A1DA-00F2BC7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E42-47F7-4AE0-BE17-D39CD0D8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EA1B-3D3D-4B3F-A4A9-17F8015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FB1D-24A8-4362-9338-7C95869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9EC0-3956-469D-BA16-5CF881B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769-659A-4685-B2E9-3D32F47D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2CBF-5197-49F1-94E9-94307093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A406-0D68-4C22-A984-B9018E33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71D4-4805-4228-8EB8-0EE011CE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DC47-BAF5-4DF6-B464-5AD54FD7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3DA0-3CEA-4866-9494-C64F1E0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2E97-04F9-44EE-BDF8-2B787D20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56B-20BF-4804-B2E4-1C16AA45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DEBE-9F03-498F-9FBB-ACD1E128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9FFB-B1F0-41FF-83B9-4776250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077D-2DCB-4465-AEAC-225FFC2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AD3A-1BCA-4EFC-BD65-1CB9D9A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A794-75B7-4EFD-A643-E95E5C6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2DE6-EBAF-44CA-8AB2-BA217AE3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1D1B-8F00-4585-8C8C-3E009F6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CA6C-1F46-4FCD-98BF-F6E91645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7F92-A801-40CC-ADEC-1528019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F081-B4A0-4D14-BB2A-A849FA79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CE5-0D1E-4EDC-950A-1F14020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60EC-1D80-455D-912E-C4CE1EA2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448D-2361-4BD0-B682-D5AB8A5B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563F-350E-4E68-83A9-5E6943A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9696-0F87-4B05-AB48-2E5A2E4A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476F-0AB6-4EBF-9728-BB56664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2711-088B-4545-9261-205C4087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AC70-4DA9-4F3E-8E6C-1D0224EF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F42A-EE0F-47F5-B7C7-BC516436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0774-1FEF-402A-8B95-FE13C03C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E30E-6151-4CCD-8BEA-9AFBC5AB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B28-7970-4044-85F6-490ABA7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CA25-F68F-4462-B028-9C128E5A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0153-009F-46DA-A43F-FE499C9C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6200-7CB1-49B3-BD8C-00AC3AB9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6C8C-8FED-4B62-8208-A7DF19D3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4F6B8-6B47-4681-9428-8D4304BC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D108E-3EA2-4AD4-90B0-8E6D318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7A9A-EE74-459D-B1A3-1682218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FB8B-26E5-4594-96BB-19A7869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56043-D4AA-436E-B984-5685AC6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9D5EB-98CA-4AFF-A71E-11A69670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AD1-3C64-4D19-8092-7CAB037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E779-47F1-45F8-BA4F-99E90332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C20-FECE-404B-862C-C0F54C3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0D5-FB1E-4532-9B71-BB95BCC7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46D-59E0-49DF-9C76-2771AAB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DDB-A722-4F44-8F50-61E9FE976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184-47E6-4015-B276-F13FADF33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647-3964-4C69-9DD8-3443BE057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9527-12C3-4A07-9E82-81820B1CE4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214D-CA18-47EB-9C9B-BD92349FCE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astal.edu/library/presentations/mills2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index.html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menus.htm#point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ianahacker.com/writersref/flash/rs_menu.asp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menud.htm#shape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c.edu/htmlpages/writerold/ex4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brary.ucla.edu/libraries/college/help/critical/discipline.htm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workshops/pp/Internet.ppt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ianahacker.com/writersref/flash/gm_flash/hackgm43.asp?session=1267331357415101&amp;name=jim&amp;group=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r_paraphr.html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research/r_paraphrEX1.html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asybib.com/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embers.tripod.com/~rtiess/webcite2.htm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each-nology.com/web_tools/rubrics/research/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landmark-project.com/classweb/tools/clonable.php?rbrc_id=86205&amp;rubric_mode=search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rmation.tjhsst.edu/overseas/ppt/copyright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c.edu/~unclng/public-d.htm" TargetMode="External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ibrary.gmu.edu/copyright/studentcopyright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diana.edu/~istd/overview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pyrightwebsite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diana.edu/~istd/practice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chnologizing Your Resear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04960" y="3429000"/>
            <a:ext cx="4647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P. Johnston, NB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bour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 student knowledge --Middle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57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ware of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m Paper M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Preplann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733920" y="380988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a 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Orient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Everyone to th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33800" cy="1467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57200" y="3019320"/>
            <a:ext cx="8229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 a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search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2840" y="2895480"/>
            <a:ext cx="9101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ctic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, practice, prac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43040" y="2017800"/>
            <a:ext cx="43912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 a strong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ractic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some m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666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Researching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3809880"/>
            <a:ext cx="64767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note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ph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 Internet resources wisely— Middle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82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A Brief Overview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ping Young M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nternet resources wisely –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igher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83455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inforce with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owerPo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91440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Down Information on Electronic Noteca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have to, use pa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2017800"/>
            <a:ext cx="8726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quotation mark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7772400" cy="3810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343400" y="1981080"/>
            <a:ext cx="44766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860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e with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araphra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83818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d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einforc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371600" y="6400800"/>
            <a:ext cx="7772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Document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352680" y="3657600"/>
            <a:ext cx="5486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research paper form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ation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MLA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981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a bibliography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tep by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7920" y="27428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Shaping Young Mind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124080" y="4038480"/>
            <a:ext cx="5105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right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giarism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m Paper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 use universal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563868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 source specific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33720" y="297144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Evaluat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226200" y="0"/>
            <a:ext cx="2917800" cy="3346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733920" y="38098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 Track of Prog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96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 product --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lement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8005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ddle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895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igh school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and abo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2392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--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nd finally,</a:t>
            </a: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 Black"/>
              </a:rPr>
              <a:t>Savor Success!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35146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contact me if I can help you in any w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52120" y="22093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bourn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ssas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3.257.8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johnston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ssas.k12.va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4120" y="220932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yce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Ma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fax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3.993.1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johnsto@g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tellectual property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s the key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ublic Domain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s an important subs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inition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 A public domain work is a creative work that is not protected by copyright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ich may be freely used by everyone.  The reasons that the work are not protected includ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the term of copyright for the work has expir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2) the author failed to satisfy statu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lities to perfect the copyright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3) the work is a work of the U.S. Governme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hough schools tend to focus on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47920" y="2017800"/>
            <a:ext cx="6410160" cy="4727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43000" y="2286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hough schools tend to focus on Copy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 Training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79760" y="2155680"/>
            <a:ext cx="47401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 it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Fu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800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 Student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nowledge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 – higher gr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943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20:23:09Z</dcterms:created>
  <dc:creator>lauren</dc:creator>
  <dc:description/>
  <dc:language>en-US</dc:language>
  <cp:lastModifiedBy>lauren</cp:lastModifiedBy>
  <dcterms:modified xsi:type="dcterms:W3CDTF">2006-03-12T03:44:12Z</dcterms:modified>
  <cp:revision>24</cp:revision>
  <dc:subject/>
  <dc:title>Technologizing Your Research</dc:title>
</cp:coreProperties>
</file>